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718-E912-4BCD-94E4-F079B91E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FB1-C6F5-4028-B100-2911361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57F-1914-4BBB-B41A-3C5BD685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9FB-EF45-4DDA-B42D-0A7D4DF1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E01B-1E91-4102-A3B2-BF889DC9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469-CF58-4044-A48C-8333B045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5427-16D0-4C94-90E4-BD499BC3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E8F1-C253-4523-8B6A-2B7DAB1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C232-2FBE-470E-B819-55E55F7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B5C6-5098-405A-A270-8C7AFD4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9F16-0685-45C2-A541-A295742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0A2-3937-425B-ACC9-A6E21C9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182-CFFE-4B64-8F77-EEB66530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D653-EBB8-44D7-8B7A-52514719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057B-10DA-4891-9B9B-81EDAFE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05D4-3699-4898-86F5-D4F8CE2B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29E2-611B-40E1-87C2-4DD443CD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969-65F6-49D1-B896-E180D03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499-5279-46DD-8E75-6989B690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F30-7977-4924-BECC-F19D28CC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075-3178-4A8C-93AA-7DD87C0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033-D080-4E89-9164-7ACFEF4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B56-CE74-4CCC-8FD2-E4D45A7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AB4-6F43-4D7D-9736-31156F6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14F-04A8-4715-BBF9-63807B7563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8B7D-7685-4283-ADCF-6CC2A3D5C9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ava.sun.com/j2se/1.4.2/docs/api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troductory Web Development with WebSphere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3428640"/>
            <a:ext cx="40129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lliot A. Varg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COM 501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MV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2400" spc="-1" strike="noStrike">
                <a:solidFill>
                  <a:srgbClr val="003366"/>
                </a:solidFill>
                <a:latin typeface="Arial"/>
              </a:rPr>
              <a:t>HTTP S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 - HTT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 1.1 Specification - http://www.w3.org/Protocols/rfc2616/rfc2616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 - JA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SDK (1.4.2) 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java.sun.com/j2se/1.4.2/docs/api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J2EE (1.3) – Server Related Info http://java.sun.com/j2ee/sdk_1.3/techdocs/api/index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s – Web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ML Tutorial – http://www.w3schools.com/html/default.a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media Dreamweaver (Pric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zilla Suite - http://www.mozilla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vu - http://nvu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aya - http://www.w3.org/Amaya/Amaya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-View-Controller (MV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ew – How the application looks to the user. Can be seen as the look and feel of the application. Implemented with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ava Server Pag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TM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g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– The enterprise logic of the application. This is the real functionality of the web application. Implemented with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ava Bean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ava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ler – How the View and the Model interact. Implemented with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ava Serv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3600" spc="-1" strike="noStrike">
                <a:solidFill>
                  <a:srgbClr val="006666"/>
                </a:solidFill>
                <a:latin typeface="Arial"/>
              </a:rPr>
              <a:t>HTTP Se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 between Servlets and JSPs is done with the HttpSession object of the Session A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the session from the HttpServletRequ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t shared objects in the s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ing MV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ServletResponse.sendRedirect() – causes a HTTP round trip between the server and the client brows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estDispatcher.forward() – hands control to another JSP or Servlet within the server without causing an HTTP round tri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ing MV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is better betwee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endRedirect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forward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llow your heart’s desire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7:28:30Z</dcterms:created>
  <dc:creator>HyruleKnight</dc:creator>
  <dc:description/>
  <dc:language>en-US</dc:language>
  <cp:lastModifiedBy>UPR - Mayagüez Campus</cp:lastModifiedBy>
  <dcterms:modified xsi:type="dcterms:W3CDTF">2005-09-08T16:28:13Z</dcterms:modified>
  <cp:revision>48</cp:revision>
  <dc:subject/>
  <dc:title>Secure Electronic Transaction Verifier/Analyzer</dc:title>
</cp:coreProperties>
</file>