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EA5-9113-4681-838F-803F0653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31E-897A-4A18-82A6-1FD27C79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DB3-1087-414A-95F3-1DE77CF9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846-D9A4-447C-8123-8AF7E315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8F36-B06A-44C2-BE02-D1A9C95E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3216-1FAE-41A0-9F9E-A40549D9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CE3B-347B-4EC4-943C-F09782B6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F87E-EFD2-4929-A131-6116C2F5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E1E5-29F2-4E03-91E8-B6AE1D77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ECEF-2613-4EB0-937F-F3D2A800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1586-A8D9-4B24-BEAE-36B59B12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179-139E-4564-9F8F-672498AC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4E9F-9162-48F3-AECB-EE2102AE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C5DF-4CF1-42AA-BBCD-14E6A24D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1119-CBA6-4743-915C-23C01E56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2B35-6866-4705-B407-2E977FF2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44EC-C5EF-41D9-8815-D07EF9EE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5BE-9F3F-4343-AB43-5B5101D8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EA2-BE49-415E-8E6C-9FADD8B8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AD5-F90C-4DFB-8275-E1592FB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AE8-6892-4086-985F-45508938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514-9CCB-4B93-9479-D9C415D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E19-7E18-4E00-8B7D-C600CE41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25A-1AF7-43A8-A169-9D45F1B6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CF42-FAC3-4579-AAA2-9AD7EA8F93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F717-0BFD-4DC6-8480-15746423B9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ev.mysql.com/doc/" TargetMode="External"/><Relationship Id="rId2" Type="http://schemas.openxmlformats.org/officeDocument/2006/relationships/hyperlink" Target="http://dev.mysql.com/doc/" TargetMode="External"/><Relationship Id="rId3" Type="http://schemas.openxmlformats.org/officeDocument/2006/relationships/hyperlink" Target="http://dev.mysql.com/doc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v.mysql.com/downloads/administrator/index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ntroduction to MySQL development tool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3428640"/>
            <a:ext cx="40129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lliot A. Varga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COM 501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Query T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2: Find all students that took</a:t>
            </a:r>
            <a:r>
              <a:rPr b="0" lang="en-US" sz="2400" spc="-1" strike="noStrike">
                <a:solidFill>
                  <a:srgbClr val="003366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OM5016 on a SPRING semes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S.id, S.fname, S.lname , T.semester, T.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OM student as S,course as C,takes as 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T.sid = S.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T.cnum = C.cn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T.cprefix = C.cpref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C.cprefix = “ICOM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C.cnum = 5016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T.semester = “SPRING”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a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fault when using InnoDB is that every statement IS a Transaction because of MySQL’s AUTOCOMM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set AUTOCOMMIT to false when executing multiple statements as a single Trans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actions Isolation 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 Uncommited - Reads dirt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 Commited - Only commited reco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eatable Read (Default) - Data doesn’t change during Transaction lif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alizable (Use this) - Must wait for other transactions to fini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each connection do: set session transaction isolation level serializ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actions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autocommit=0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ert into student values (802050005, “Gambo”, “Gambo”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i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autocommit=1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003366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003366"/>
                </a:solidFill>
                <a:latin typeface="Arial"/>
              </a:rPr>
              <a:t>MySQL Administr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003366"/>
                </a:solidFill>
                <a:latin typeface="Arial"/>
              </a:rPr>
              <a:t>MySQL Query Brow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003366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ources - Docum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ySQL 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dev.mysql.com/doc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ySQL Administrator 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dev.mysql.com/doc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ySQL Query Browser 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dev.mysql.com/doc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ources - T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ySQL Administrator 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dev.mysql.com/downloads/administrator/index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ySQL Query Browser - http://dev.mysql.com/downloads/query-browser/1.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ヒラギノ角ゴ Pro W3"/>
              </a:rPr>
              <a:t>Creating a new Datab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the MySQL Admin Tool (Demo)</a:t>
            </a:r>
            <a:r>
              <a:rPr b="0" lang="en-US" sz="2800" spc="-1" strike="noStrike">
                <a:solidFill>
                  <a:srgbClr val="003366"/>
                </a:solidFill>
                <a:latin typeface="ヒラギノ角ゴ Pro W3"/>
              </a:rPr>
              <a:t>_x0018__x0013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the Command Line (De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ヒラギノ角ゴ Pro W3"/>
              </a:rPr>
              <a:t>- create database </a:t>
            </a:r>
            <a:r>
              <a:rPr b="0" i="1" lang="en-US" sz="2400" spc="-1" strike="noStrike">
                <a:solidFill>
                  <a:srgbClr val="003366"/>
                </a:solidFill>
                <a:latin typeface="ヒラギノ角ゴ Pro W3"/>
              </a:rPr>
              <a:t>dbna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ヒラギノ角ゴ Pro W3"/>
              </a:rPr>
              <a:t>Using SQL Scripts (Demo_x0018_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ysql -u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-p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bnam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lt;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cri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54800" y="1260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ヒラギノ角ゴ Pro W3"/>
              </a:rPr>
              <a:t>Creating a new T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the MySQL Admin Tool (Demo)</a:t>
            </a:r>
            <a:r>
              <a:rPr b="0" lang="en-US" sz="2800" spc="-1" strike="noStrike">
                <a:solidFill>
                  <a:srgbClr val="003366"/>
                </a:solidFill>
                <a:latin typeface="ヒラギノ角ゴ Pro W3"/>
              </a:rPr>
              <a:t>_x0018__x0013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the Command Line (De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ヒラギノ角ゴ Pro W3"/>
              </a:rPr>
              <a:t>- create table </a:t>
            </a:r>
            <a:r>
              <a:rPr b="0" i="1" lang="en-US" sz="2400" spc="-1" strike="noStrike">
                <a:solidFill>
                  <a:srgbClr val="003366"/>
                </a:solidFill>
                <a:latin typeface="ヒラギノ角ゴ Pro W3"/>
              </a:rPr>
              <a:t>name</a:t>
            </a:r>
            <a:r>
              <a:rPr b="0" lang="en-US" sz="2400" spc="-1" strike="noStrike">
                <a:solidFill>
                  <a:srgbClr val="003366"/>
                </a:solidFill>
                <a:latin typeface="ヒラギノ角ゴ Pro W3"/>
              </a:rPr>
              <a:t> (attribute list) engine=InnoDB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ヒラギノ角ゴ Pro W3"/>
              </a:rPr>
              <a:t>Using SQL Scripts (Demo_x0018_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ysql -u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-p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bnam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lt;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cri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54800" y="1260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ng T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the command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ert into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able_nam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values (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alu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n SQL scri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ysql -u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-p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bnam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lt;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cri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QL Script can be generated programmatic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 a Java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Query T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1: Find all information of all stu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*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stude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94320" y="1066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Query T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2: Find all students that have taken</a:t>
            </a:r>
            <a:r>
              <a:rPr b="0" lang="en-US" sz="2400" spc="-1" strike="noStrike">
                <a:solidFill>
                  <a:srgbClr val="003366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OM5016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S.id, S.fname, S.lname, T.semester, T.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OM student as S,course as C,takes as 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T.sid = S.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T.cnum = C.cn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T.cprefix = C.cpref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C.cprefix = “ICOM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C.cnum = 5016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7:28:30Z</dcterms:created>
  <dc:creator>HyruleKnight</dc:creator>
  <dc:description/>
  <dc:language>en-US</dc:language>
  <cp:lastModifiedBy>乩歫椠䱡畳椀㸲㻸ꔿ㌋䬮ꍰ䞮誀圇짗꾬钒붤鏊꣊㥊揤鞁</cp:lastModifiedBy>
  <dcterms:modified xsi:type="dcterms:W3CDTF">2005-10-18T05:46:35Z</dcterms:modified>
  <cp:revision>97</cp:revision>
  <dc:subject/>
  <dc:title>Secure Electronic Transaction Verifier/Analyzer</dc:title>
</cp:coreProperties>
</file>